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RBRAK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CB67-AB1F-4559-A98C-9DE7C04B5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3965-3A26-4FD6-BA44-A6D4C062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0BD9-7C77-4844-BCA2-80B770D87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9C3D-FD4F-40EC-8DD9-9E2332641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436E-D03E-4BED-BADD-2C8F7C97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8BA5-367C-4A9F-8035-451EC67D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0475-470B-4BBB-A79F-553433C8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9AA2-1E3D-41ED-8FB5-6313B35E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8456-DBF8-4E42-BAAE-FB66D233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B5E1-923D-4087-8999-3A6860D5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EE74-A384-4511-8FE7-D335BDC1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C4C2-A939-4201-8ABC-0295F456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3DBC-D58A-4AED-A4E6-8C7DA5250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audio" Target="../media/CARBRAKE.WAV"/><Relationship Id="rId13" Type="http://schemas.openxmlformats.org/officeDocument/2006/relationships/audio" Target="../media/CARBRAKE.WAV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04920"/>
            <a:ext cx="8229600" cy="1739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Qu’est-ce que c’est? (what is it?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C’est … (It is a …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003640" y="2349360"/>
            <a:ext cx="3552840" cy="1739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Comic Sans MS"/>
              </a:rPr>
              <a:t>une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 règ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Comic Sans MS"/>
              </a:rPr>
              <a:t>une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 gom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Comic Sans MS"/>
              </a:rPr>
              <a:t>une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 trous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0"/>
            <a:ext cx="3962520" cy="3934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cc"/>
                </a:solidFill>
                <a:latin typeface="Comic Sans MS"/>
              </a:rPr>
              <a:t>un 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cah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cc"/>
                </a:solidFill>
                <a:latin typeface="Comic Sans MS"/>
              </a:rPr>
              <a:t>un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 cray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cc"/>
                </a:solidFill>
                <a:latin typeface="Comic Sans MS"/>
              </a:rPr>
              <a:t>un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 feut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cc"/>
                </a:solidFill>
                <a:latin typeface="Comic Sans MS"/>
              </a:rPr>
              <a:t>un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 liv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cc"/>
                </a:solidFill>
                <a:latin typeface="Comic Sans MS"/>
              </a:rPr>
              <a:t>un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 sty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cc"/>
                </a:solidFill>
                <a:latin typeface="Comic Sans MS"/>
              </a:rPr>
              <a:t>un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 stylo à bil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cc"/>
                </a:solidFill>
                <a:latin typeface="Comic Sans MS"/>
              </a:rPr>
              <a:t>un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 taille cray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4724280"/>
            <a:ext cx="434340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3333cc"/>
                </a:solidFill>
                <a:latin typeface="Comic Sans MS"/>
              </a:rPr>
              <a:t>un</a:t>
            </a:r>
            <a:r>
              <a:rPr b="0" lang="fr-FR" sz="5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fr-FR" sz="5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fr-FR" sz="5400" spc="-1" strike="noStrike">
                <a:solidFill>
                  <a:srgbClr val="ff0000"/>
                </a:solidFill>
                <a:latin typeface="Comic Sans MS"/>
              </a:rPr>
              <a:t>une </a:t>
            </a:r>
            <a:r>
              <a:rPr b="0" lang="fr-FR" sz="5400" spc="-1" strike="noStrike">
                <a:solidFill>
                  <a:srgbClr val="000000"/>
                </a:solidFill>
                <a:latin typeface="Comic Sans MS"/>
              </a:rPr>
              <a:t>= 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3600" y="533520"/>
            <a:ext cx="8187480" cy="612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Comic Sans MS"/>
              </a:rPr>
              <a:t>I can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reet someone and ask their na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Say hello and goodby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me six objects that I have got and one that I haven’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Count to 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ay the alphab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Spell my n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sk someone to spell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8480" y="189000"/>
            <a:ext cx="5798160" cy="1312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000000"/>
                </a:solidFill>
                <a:uFillTx/>
                <a:latin typeface="Comic Sans MS"/>
              </a:rPr>
              <a:t>Combien y en a-t-i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How many are there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4280" y="1700280"/>
            <a:ext cx="2687760" cy="1312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 u="sng">
                <a:solidFill>
                  <a:srgbClr val="000000"/>
                </a:solidFill>
                <a:uFillTx/>
                <a:latin typeface="Comic Sans MS"/>
              </a:rPr>
              <a:t>Il y a 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There are 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3240" y="3141720"/>
            <a:ext cx="3776760" cy="35060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3200" spc="-1" strike="noStrike" u="sng">
                <a:solidFill>
                  <a:srgbClr val="3333cc"/>
                </a:solidFill>
                <a:uFillTx/>
                <a:latin typeface="Comic Sans MS"/>
              </a:rPr>
              <a:t>un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cray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Comic Sans MS"/>
              </a:rPr>
              <a:t>deux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 ball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fr-FR" sz="3200" spc="-1" strike="noStrike" u="sng">
                <a:solidFill>
                  <a:srgbClr val="3333cc"/>
                </a:solidFill>
                <a:uFillTx/>
                <a:latin typeface="Comic Sans MS"/>
              </a:rPr>
              <a:t>trois</a:t>
            </a: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 carav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Comic Sans MS"/>
              </a:rPr>
              <a:t>quatre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 ban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fr-FR" sz="3200" spc="-1" strike="noStrike" u="sng">
                <a:solidFill>
                  <a:srgbClr val="3333cc"/>
                </a:solidFill>
                <a:uFillTx/>
                <a:latin typeface="Comic Sans MS"/>
              </a:rPr>
              <a:t>cinq</a:t>
            </a: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 sandwic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Comic Sans MS"/>
              </a:rPr>
              <a:t>six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 biscu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fr-FR" sz="3200" spc="-1" strike="noStrike" u="sng">
                <a:solidFill>
                  <a:srgbClr val="3333cc"/>
                </a:solidFill>
                <a:uFillTx/>
                <a:latin typeface="Comic Sans MS"/>
              </a:rPr>
              <a:t>sept</a:t>
            </a: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 giraf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4880" y="2565360"/>
            <a:ext cx="4275720" cy="39934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(8) </a:t>
            </a:r>
            <a:r>
              <a:rPr b="0" lang="fr-FR" sz="3200" spc="-1" strike="noStrike" u="sng">
                <a:solidFill>
                  <a:srgbClr val="3333cc"/>
                </a:solidFill>
                <a:uFillTx/>
                <a:latin typeface="Comic Sans MS"/>
              </a:rPr>
              <a:t>huit</a:t>
            </a: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 moust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(9) 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Comic Sans MS"/>
              </a:rPr>
              <a:t>neuf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 tromb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(10) </a:t>
            </a:r>
            <a:r>
              <a:rPr b="0" lang="fr-FR" sz="3200" spc="-1" strike="noStrike" u="sng">
                <a:solidFill>
                  <a:srgbClr val="3333cc"/>
                </a:solidFill>
                <a:uFillTx/>
                <a:latin typeface="Comic Sans MS"/>
              </a:rPr>
              <a:t>dix</a:t>
            </a: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 téléph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(11) 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Comic Sans MS"/>
              </a:rPr>
              <a:t>onze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 baguet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(12) </a:t>
            </a:r>
            <a:r>
              <a:rPr b="0" lang="fr-FR" sz="3200" spc="-1" strike="noStrike" u="sng">
                <a:solidFill>
                  <a:srgbClr val="3333cc"/>
                </a:solidFill>
                <a:uFillTx/>
                <a:latin typeface="Comic Sans MS"/>
              </a:rPr>
              <a:t>douze</a:t>
            </a: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 bicyclet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(13) 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Comic Sans MS"/>
              </a:rPr>
              <a:t>treize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 t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(14) </a:t>
            </a:r>
            <a:r>
              <a:rPr b="0" lang="fr-FR" sz="3200" spc="-1" strike="noStrike" u="sng">
                <a:solidFill>
                  <a:srgbClr val="3333cc"/>
                </a:solidFill>
                <a:uFillTx/>
                <a:latin typeface="Comic Sans MS"/>
              </a:rPr>
              <a:t>quatorze</a:t>
            </a: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(15) 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Comic Sans MS"/>
              </a:rPr>
              <a:t>quinze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 gl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47360" y="765000"/>
            <a:ext cx="6930000" cy="2043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Quel âge as-tu? (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old are you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J’ai (onze) ans. (I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m 1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128240" y="1197000"/>
            <a:ext cx="6930000" cy="42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Comment tu t’appel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Je m’appelle …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Quel âge as-tu?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old are you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J’ai (onze) ans.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(I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m 1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01280" y="228600"/>
            <a:ext cx="4188240" cy="1068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ombien y en a-t-i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Il y a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8600" y="2666880"/>
            <a:ext cx="339120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Quel âge as-tu?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J’ai onze ans.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760" y="5334120"/>
            <a:ext cx="4824000" cy="1068840"/>
          </a:xfrm>
          <a:prstGeom prst="rect">
            <a:avLst/>
          </a:prstGeom>
          <a:solidFill>
            <a:srgbClr val="ff9966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Comment tu t’appel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Je m’appelle …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43280" y="3809880"/>
            <a:ext cx="4148640" cy="1068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ent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ça s’écri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B-O-N-B-O-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31600" y="1523880"/>
            <a:ext cx="4544640" cy="1068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omment ça v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Ç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a va très bien merc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228600"/>
            <a:ext cx="45720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914400"/>
            <a:ext cx="45720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057400"/>
            <a:ext cx="45720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3200400"/>
            <a:ext cx="45720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724280"/>
            <a:ext cx="45720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9680" y="304920"/>
            <a:ext cx="2131560" cy="4968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00"/>
                </a:solidFill>
                <a:latin typeface="Comic Sans MS"/>
              </a:rPr>
              <a:t>0 = zé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1 = 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2 = de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3 = tro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4 = qua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5 = cin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6 = s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7 = s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8 = hu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9 = neu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88680" y="304920"/>
            <a:ext cx="2801880" cy="496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8000"/>
                </a:solidFill>
                <a:uFillTx/>
                <a:latin typeface="Comic Sans MS"/>
              </a:rPr>
              <a:t>10 = 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11 = on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12 = dou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13 = tre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14 = quator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15 = quin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16 = se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17 = </a:t>
            </a:r>
            <a:r>
              <a:rPr b="0" lang="fr-FR" sz="3200" spc="-1" strike="noStrike">
                <a:solidFill>
                  <a:srgbClr val="008000"/>
                </a:solidFill>
                <a:latin typeface="Comic Sans MS"/>
              </a:rPr>
              <a:t>dix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s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18 = </a:t>
            </a:r>
            <a:r>
              <a:rPr b="0" lang="fr-FR" sz="3200" spc="-1" strike="noStrike">
                <a:solidFill>
                  <a:srgbClr val="008000"/>
                </a:solidFill>
                <a:latin typeface="Comic Sans MS"/>
              </a:rPr>
              <a:t>dix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hu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19 = </a:t>
            </a:r>
            <a:r>
              <a:rPr b="0" lang="fr-FR" sz="3200" spc="-1" strike="noStrike">
                <a:solidFill>
                  <a:srgbClr val="008000"/>
                </a:solidFill>
                <a:latin typeface="Comic Sans MS"/>
              </a:rPr>
              <a:t>dix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neu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24480" y="304920"/>
            <a:ext cx="3455640" cy="496836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8000"/>
                </a:solidFill>
                <a:uFillTx/>
                <a:latin typeface="Comic Sans MS"/>
              </a:rPr>
              <a:t>20 = ving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21 = </a:t>
            </a:r>
            <a:r>
              <a:rPr b="0" lang="fr-FR" sz="3200" spc="-1" strike="noStrike">
                <a:solidFill>
                  <a:srgbClr val="008000"/>
                </a:solidFill>
                <a:latin typeface="Comic Sans MS"/>
              </a:rPr>
              <a:t>vingt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et </a:t>
            </a: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22 = </a:t>
            </a:r>
            <a:r>
              <a:rPr b="0" lang="fr-FR" sz="3200" spc="-1" strike="noStrike">
                <a:solidFill>
                  <a:srgbClr val="008000"/>
                </a:solidFill>
                <a:latin typeface="Comic Sans MS"/>
              </a:rPr>
              <a:t>vingt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de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23 = </a:t>
            </a:r>
            <a:r>
              <a:rPr b="0" lang="fr-FR" sz="3200" spc="-1" strike="noStrike">
                <a:solidFill>
                  <a:srgbClr val="008000"/>
                </a:solidFill>
                <a:latin typeface="Comic Sans MS"/>
              </a:rPr>
              <a:t>vingt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tro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24 = </a:t>
            </a:r>
            <a:r>
              <a:rPr b="0" lang="fr-FR" sz="3200" spc="-1" strike="noStrike">
                <a:solidFill>
                  <a:srgbClr val="008000"/>
                </a:solidFill>
                <a:latin typeface="Comic Sans MS"/>
              </a:rPr>
              <a:t>vingt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qua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25 = </a:t>
            </a:r>
            <a:r>
              <a:rPr b="0" lang="fr-FR" sz="3200" spc="-1" strike="noStrike">
                <a:solidFill>
                  <a:srgbClr val="008000"/>
                </a:solidFill>
                <a:latin typeface="Comic Sans MS"/>
              </a:rPr>
              <a:t>vingt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cin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26 = </a:t>
            </a:r>
            <a:r>
              <a:rPr b="0" lang="fr-FR" sz="3200" spc="-1" strike="noStrike">
                <a:solidFill>
                  <a:srgbClr val="008000"/>
                </a:solidFill>
                <a:latin typeface="Comic Sans MS"/>
              </a:rPr>
              <a:t>vingt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s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27 = </a:t>
            </a:r>
            <a:r>
              <a:rPr b="0" lang="fr-FR" sz="3200" spc="-1" strike="noStrike">
                <a:solidFill>
                  <a:srgbClr val="008000"/>
                </a:solidFill>
                <a:latin typeface="Comic Sans MS"/>
              </a:rPr>
              <a:t>vingt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s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28 = </a:t>
            </a:r>
            <a:r>
              <a:rPr b="0" lang="fr-FR" sz="3200" spc="-1" strike="noStrike">
                <a:solidFill>
                  <a:srgbClr val="008000"/>
                </a:solidFill>
                <a:latin typeface="Comic Sans MS"/>
              </a:rPr>
              <a:t>vingt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hu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29 = </a:t>
            </a:r>
            <a:r>
              <a:rPr b="0" lang="fr-FR" sz="3200" spc="-1" strike="noStrike">
                <a:solidFill>
                  <a:srgbClr val="008000"/>
                </a:solidFill>
                <a:latin typeface="Comic Sans MS"/>
              </a:rPr>
              <a:t>vingt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neu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32040" y="5486400"/>
            <a:ext cx="3351960" cy="106884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8000"/>
                </a:solidFill>
                <a:uFillTx/>
                <a:latin typeface="Comic Sans MS"/>
              </a:rPr>
              <a:t>30 = tr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31 = </a:t>
            </a:r>
            <a:r>
              <a:rPr b="0" lang="fr-FR" sz="3200" spc="-1" strike="noStrike">
                <a:solidFill>
                  <a:srgbClr val="008000"/>
                </a:solidFill>
                <a:latin typeface="Comic Sans MS"/>
              </a:rPr>
              <a:t>trente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et </a:t>
            </a: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66800" y="476280"/>
            <a:ext cx="14760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janv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" y="1268280"/>
            <a:ext cx="14288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fév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46080" y="1989000"/>
            <a:ext cx="11530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m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24640" y="620640"/>
            <a:ext cx="9946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avr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22920" y="1484280"/>
            <a:ext cx="8953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m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55320" y="2276640"/>
            <a:ext cx="8938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ju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1960" y="3716280"/>
            <a:ext cx="12294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juil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26040" y="4435560"/>
            <a:ext cx="10540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aoû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46800" y="5156280"/>
            <a:ext cx="226116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septem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64320" y="3860640"/>
            <a:ext cx="166356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octo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18880" y="4581360"/>
            <a:ext cx="21452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novem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27960" y="5229360"/>
            <a:ext cx="21146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décem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89000"/>
            <a:ext cx="2916360" cy="273528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40000" y="3429000"/>
            <a:ext cx="2879640" cy="2736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51280" y="333360"/>
            <a:ext cx="2843280" cy="280836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84720" y="3500280"/>
            <a:ext cx="2880000" cy="27370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56000" y="1484280"/>
            <a:ext cx="187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924000" y="2492280"/>
            <a:ext cx="57636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88000" y="450864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639880" y="1413000"/>
            <a:ext cx="3683520" cy="52120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un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d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mar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d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mercre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d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jeu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d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vendre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d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same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d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di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manc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84840" y="260280"/>
            <a:ext cx="686160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 u="sng">
                <a:solidFill>
                  <a:srgbClr val="000000"/>
                </a:solidFill>
                <a:uFillTx/>
                <a:latin typeface="Comic Sans MS"/>
              </a:rPr>
              <a:t>Les </a:t>
            </a:r>
            <a:r>
              <a:rPr b="0" lang="en-GB" sz="4800" spc="-1" strike="noStrike" u="sng">
                <a:solidFill>
                  <a:srgbClr val="3333cc"/>
                </a:solidFill>
                <a:uFillTx/>
                <a:latin typeface="Comic Sans MS"/>
              </a:rPr>
              <a:t>jours</a:t>
            </a:r>
            <a:r>
              <a:rPr b="0" lang="en-GB" sz="4800" spc="-1" strike="noStrike" u="sng">
                <a:solidFill>
                  <a:srgbClr val="000000"/>
                </a:solidFill>
                <a:uFillTx/>
                <a:latin typeface="Comic Sans MS"/>
              </a:rPr>
              <a:t> de la </a:t>
            </a:r>
            <a:r>
              <a:rPr b="0" lang="en-GB" sz="4800" spc="-1" strike="noStrike" u="sng">
                <a:solidFill>
                  <a:srgbClr val="008000"/>
                </a:solidFill>
                <a:uFillTx/>
                <a:latin typeface="Comic Sans MS"/>
              </a:rPr>
              <a:t>semai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41960" y="1773360"/>
            <a:ext cx="7739280" cy="581400"/>
          </a:xfrm>
          <a:prstGeom prst="rect">
            <a:avLst/>
          </a:prstGeom>
          <a:solidFill>
            <a:srgbClr val="ffff99"/>
          </a:solidFill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Quelle est la date de ton anniversai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1240" y="2708280"/>
            <a:ext cx="7740720" cy="5814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Mon anniversaire, c’est le </a:t>
            </a: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……….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……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52200" y="189000"/>
            <a:ext cx="61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on anniversaire (my birthd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333360"/>
            <a:ext cx="1223640" cy="1081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51640" y="4941720"/>
            <a:ext cx="1224000" cy="1081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4869000"/>
            <a:ext cx="1224000" cy="1081080"/>
          </a:xfrm>
          <a:prstGeom prst="ellipse">
            <a:avLst/>
          </a:prstGeom>
          <a:solidFill>
            <a:srgbClr val="fb82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2349360"/>
            <a:ext cx="1224000" cy="1081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56000" y="2349360"/>
            <a:ext cx="1224000" cy="10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76720" y="2421000"/>
            <a:ext cx="1224000" cy="108108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08720" y="2492280"/>
            <a:ext cx="1224000" cy="1081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56000" y="333360"/>
            <a:ext cx="1224000" cy="10810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03640" y="333360"/>
            <a:ext cx="1224000" cy="108108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36000" y="404640"/>
            <a:ext cx="1223640" cy="10814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84760" y="5734080"/>
            <a:ext cx="10173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le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46720" y="4508640"/>
            <a:ext cx="12110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lan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54200" y="5229360"/>
            <a:ext cx="9320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63640" y="5300640"/>
            <a:ext cx="13266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o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29000" y="4076640"/>
            <a:ext cx="8985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49440" y="4076640"/>
            <a:ext cx="10206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17640" y="6021360"/>
            <a:ext cx="12474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25920" y="4149720"/>
            <a:ext cx="15552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r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7000" y="6093000"/>
            <a:ext cx="16239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r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45560" y="5084640"/>
            <a:ext cx="951840" cy="581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o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5880" y="1341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4280" y="1341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96640" y="1341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85720" y="1268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2640" y="3429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48640" y="32846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5360" y="3357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85720" y="32846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8280" y="5805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48160" y="59500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89000"/>
            <a:ext cx="1692360" cy="180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95640" y="189000"/>
            <a:ext cx="1692000" cy="180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43280" y="189000"/>
            <a:ext cx="1692360" cy="180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77080" y="189000"/>
            <a:ext cx="1692360" cy="180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2205000"/>
            <a:ext cx="1692360" cy="180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797360"/>
            <a:ext cx="1692360" cy="180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77080" y="2205000"/>
            <a:ext cx="1692360" cy="180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93080" y="4869000"/>
            <a:ext cx="1692000" cy="180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68360" y="2133720"/>
            <a:ext cx="1692360" cy="180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43280" y="2205000"/>
            <a:ext cx="1692360" cy="180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06358E-006 L -0.3224 -0.67214 E">
                                      <p:cBhvr>
                                        <p:cTn id="609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21965E-006 L 0.06302 -0.74474 E">
                                      <p:cBhvr>
                                        <p:cTn id="613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4104E-006 L 0.10521 -0.79792 E">
                                      <p:cBhvr>
                                        <p:cTn id="617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79191E-006 L 0.23333 -0.49364 E">
                                      <p:cBhvr>
                                        <p:cTn id="621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60116E-006 L -0.61788 -0.35745 E">
                                      <p:cBhvr>
                                        <p:cTn id="625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96532E-006 L -0.11146 -0.27352 E">
                                      <p:cBhvr>
                                        <p:cTn id="629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79191E-006 L 0.40087 -0.2 E">
                                      <p:cBhvr>
                                        <p:cTn id="633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21387E-006 L 0.20955 -0.48324 E">
                                      <p:cBhvr>
                                        <p:cTn id="637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3 -0.00093 L -0.66268 0.14589 E">
                                      <p:cBhvr>
                                        <p:cTn id="641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31214E-006 L 0.31736 -0.01133 E">
                                      <p:cBhvr>
                                        <p:cTn id="645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34360" y="811080"/>
            <a:ext cx="8350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As-tu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u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…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Have you g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 …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i,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j’a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u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…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es,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I hav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n,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je n’ai pa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 … (No,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I haven’t g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 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77440" y="3860640"/>
            <a:ext cx="7857000" cy="2531160"/>
          </a:xfrm>
          <a:prstGeom prst="rect">
            <a:avLst/>
          </a:prstGeom>
          <a:solidFill>
            <a:srgbClr val="ffff99"/>
          </a:soli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adjectives add an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e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the femin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less they already end in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x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 livre v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</a:t>
            </a: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aison vert</a:t>
            </a: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2480" y="549360"/>
            <a:ext cx="7904160" cy="25311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French the word for the colour 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fter the word it describ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x: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 crayon </a:t>
            </a: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roug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re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enc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 livre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leu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lu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32360" y="234936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32360" y="285264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13160" y="2421000"/>
            <a:ext cx="3377520" cy="581400"/>
          </a:xfrm>
          <a:prstGeom prst="rect">
            <a:avLst/>
          </a:prstGeom>
          <a:solidFill>
            <a:srgbClr val="ff9966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Je m ’appelle 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200" y="4292640"/>
            <a:ext cx="2908080" cy="5814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J ’ai …… ans.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1320" y="3357720"/>
            <a:ext cx="2574360" cy="581400"/>
          </a:xfrm>
          <a:prstGeom prst="rect">
            <a:avLst/>
          </a:prstGeom>
          <a:solidFill>
            <a:srgbClr val="cccc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Ç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s’écri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25760" y="1484280"/>
            <a:ext cx="193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njour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3360" y="6021360"/>
            <a:ext cx="203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u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revoi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1240" y="5229360"/>
            <a:ext cx="7740720" cy="5814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Mon anniversaire, c’est le </a:t>
            </a: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……….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……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333360"/>
            <a:ext cx="8264160" cy="642600"/>
          </a:xfrm>
          <a:prstGeom prst="rect">
            <a:avLst/>
          </a:prstGeom>
          <a:solidFill>
            <a:srgbClr val="ffff99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an you introduce yourself in Frenc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80640" y="241200"/>
            <a:ext cx="78372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99"/>
                </a:solidFill>
                <a:latin typeface="Comic Sans MS"/>
              </a:rPr>
              <a:t>A </a:t>
            </a:r>
            <a:r>
              <a:rPr b="0" lang="en-US" sz="6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cc0099"/>
                </a:solidFill>
                <a:latin typeface="Comic Sans MS"/>
              </a:rPr>
              <a:t>B</a:t>
            </a:r>
            <a:r>
              <a:rPr b="0" lang="en-US" sz="6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cc0099"/>
                </a:solidFill>
                <a:latin typeface="Comic Sans MS"/>
              </a:rPr>
              <a:t>C</a:t>
            </a:r>
            <a:r>
              <a:rPr b="0" lang="en-US" sz="6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cc0099"/>
                </a:solidFill>
                <a:latin typeface="Comic Sans MS"/>
              </a:rPr>
              <a:t>D</a:t>
            </a:r>
            <a:r>
              <a:rPr b="0" lang="en-US" sz="6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cc0099"/>
                </a:solidFill>
                <a:latin typeface="Comic Sans MS"/>
              </a:rPr>
              <a:t> E</a:t>
            </a:r>
            <a:r>
              <a:rPr b="0" lang="en-US" sz="6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cc0099"/>
                </a:solidFill>
                <a:latin typeface="Comic Sans MS"/>
              </a:rPr>
              <a:t>F</a:t>
            </a:r>
            <a:r>
              <a:rPr b="0" lang="en-US" sz="6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cc0099"/>
                </a:solidFill>
                <a:latin typeface="Comic Sans MS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H I</a:t>
            </a: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L</a:t>
            </a: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M</a:t>
            </a: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 N</a:t>
            </a: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O 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Q </a:t>
            </a: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T </a:t>
            </a: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U </a:t>
            </a: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V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8880" y="179280"/>
            <a:ext cx="7809840" cy="66744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cc"/>
                </a:solidFill>
                <a:latin typeface="Comic Sans MS"/>
              </a:rPr>
              <a:t>A = un </a:t>
            </a:r>
            <a:r>
              <a:rPr b="0" lang="fr-FR" sz="4800" spc="-1" strike="noStrike">
                <a:solidFill>
                  <a:srgbClr val="3333cc"/>
                </a:solidFill>
                <a:latin typeface="Comic Sans MS"/>
              </a:rPr>
              <a:t>âne </a:t>
            </a:r>
            <a:r>
              <a:rPr b="0" lang="en-GB" sz="4800" spc="-1" strike="noStrike">
                <a:solidFill>
                  <a:srgbClr val="3333cc"/>
                </a:solidFill>
                <a:latin typeface="Comic Sans MS"/>
              </a:rPr>
              <a:t>/donke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B = </a:t>
            </a:r>
            <a:r>
              <a:rPr b="0" lang="fr-FR" sz="4800" spc="-1" strike="noStrike">
                <a:solidFill>
                  <a:srgbClr val="ff0000"/>
                </a:solidFill>
                <a:latin typeface="Comic Sans MS"/>
              </a:rPr>
              <a:t>une baleine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 / a wha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cc"/>
                </a:solidFill>
                <a:latin typeface="Comic Sans MS"/>
              </a:rPr>
              <a:t>C = un crayon / a penci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D = un dauphin / a dolph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cc"/>
                </a:solidFill>
                <a:latin typeface="Comic Sans MS"/>
              </a:rPr>
              <a:t>E = </a:t>
            </a:r>
            <a:r>
              <a:rPr b="0" lang="fr-FR" sz="4800" spc="-1" strike="noStrike">
                <a:solidFill>
                  <a:srgbClr val="3333cc"/>
                </a:solidFill>
                <a:latin typeface="Comic Sans MS"/>
              </a:rPr>
              <a:t>un écureuil</a:t>
            </a:r>
            <a:r>
              <a:rPr b="0" lang="en-GB" sz="4800" spc="-1" strike="noStrike">
                <a:solidFill>
                  <a:srgbClr val="3333cc"/>
                </a:solidFill>
                <a:latin typeface="Comic Sans MS"/>
              </a:rPr>
              <a:t> / a squirr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F = </a:t>
            </a:r>
            <a:r>
              <a:rPr b="0" lang="fr-FR" sz="4800" spc="-1" strike="noStrike">
                <a:solidFill>
                  <a:srgbClr val="ff0000"/>
                </a:solidFill>
                <a:latin typeface="Comic Sans MS"/>
              </a:rPr>
              <a:t>une ferme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 / a far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cc"/>
                </a:solidFill>
                <a:latin typeface="Comic Sans MS"/>
              </a:rPr>
              <a:t>G = </a:t>
            </a:r>
            <a:r>
              <a:rPr b="0" lang="fr-FR" sz="4800" spc="-1" strike="noStrike">
                <a:solidFill>
                  <a:srgbClr val="3333cc"/>
                </a:solidFill>
                <a:latin typeface="Comic Sans MS"/>
              </a:rPr>
              <a:t>une grenouille</a:t>
            </a:r>
            <a:r>
              <a:rPr b="0" lang="en-GB" sz="4800" spc="-1" strike="noStrike">
                <a:solidFill>
                  <a:srgbClr val="3333cc"/>
                </a:solidFill>
                <a:latin typeface="Comic Sans MS"/>
              </a:rPr>
              <a:t> / fro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H = un hamster/ hams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cc"/>
                </a:solidFill>
                <a:latin typeface="Comic Sans MS"/>
              </a:rPr>
              <a:t>I = un igloo / iglo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41800" y="0"/>
            <a:ext cx="8113320" cy="66744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cc"/>
                </a:solidFill>
                <a:latin typeface="Comic Sans MS"/>
              </a:rPr>
              <a:t>J = </a:t>
            </a:r>
            <a:r>
              <a:rPr b="0" lang="fr-FR" sz="4800" spc="-1" strike="noStrike">
                <a:solidFill>
                  <a:srgbClr val="3333cc"/>
                </a:solidFill>
                <a:latin typeface="Comic Sans MS"/>
              </a:rPr>
              <a:t>un jouet / a </a:t>
            </a:r>
            <a:r>
              <a:rPr b="0" lang="en-GB" sz="4800" spc="-1" strike="noStrike">
                <a:solidFill>
                  <a:srgbClr val="3333cc"/>
                </a:solidFill>
                <a:latin typeface="Comic Sans MS"/>
              </a:rPr>
              <a:t>t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0000"/>
                </a:solidFill>
                <a:latin typeface="Comic Sans MS"/>
              </a:rPr>
              <a:t>K = un koala / a koa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3333cc"/>
                </a:solidFill>
                <a:latin typeface="Comic Sans MS"/>
              </a:rPr>
              <a:t>L = un livre / a boo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0000"/>
                </a:solidFill>
                <a:latin typeface="Comic Sans MS"/>
              </a:rPr>
              <a:t>M = une maison / a hou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3333cc"/>
                </a:solidFill>
                <a:latin typeface="Comic Sans MS"/>
              </a:rPr>
              <a:t>N = un nuage / a </a:t>
            </a:r>
            <a:r>
              <a:rPr b="0" lang="en-GB" sz="4800" spc="-1" strike="noStrike">
                <a:solidFill>
                  <a:srgbClr val="3333cc"/>
                </a:solidFill>
                <a:latin typeface="Comic Sans MS"/>
              </a:rPr>
              <a:t>clou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0000"/>
                </a:solidFill>
                <a:latin typeface="Comic Sans MS"/>
              </a:rPr>
              <a:t>O = une orange / an oran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3333cc"/>
                </a:solidFill>
                <a:latin typeface="Comic Sans MS"/>
              </a:rPr>
              <a:t>P = un pingouin / a 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pengu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0000"/>
                </a:solidFill>
                <a:latin typeface="Comic Sans MS"/>
              </a:rPr>
              <a:t>Q = une quille / a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skitt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3333cc"/>
                </a:solidFill>
                <a:latin typeface="Comic Sans MS"/>
              </a:rPr>
              <a:t>R = une règle / a </a:t>
            </a:r>
            <a:r>
              <a:rPr b="0" lang="en-GB" sz="4800" spc="-1" strike="noStrike">
                <a:solidFill>
                  <a:srgbClr val="3333cc"/>
                </a:solidFill>
                <a:latin typeface="Comic Sans MS"/>
              </a:rPr>
              <a:t>rul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560" y="404640"/>
            <a:ext cx="9167760" cy="594324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cc"/>
                </a:solidFill>
                <a:latin typeface="Comic Sans MS"/>
              </a:rPr>
              <a:t>S = un serpent / a snak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T = </a:t>
            </a:r>
            <a:r>
              <a:rPr b="0" lang="fr-FR" sz="4800" spc="-1" strike="noStrike">
                <a:solidFill>
                  <a:srgbClr val="ff0000"/>
                </a:solidFill>
                <a:latin typeface="Comic Sans MS"/>
              </a:rPr>
              <a:t>une télévi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cc"/>
                </a:solidFill>
                <a:latin typeface="Comic Sans MS"/>
              </a:rPr>
              <a:t>U </a:t>
            </a:r>
            <a:r>
              <a:rPr b="0" lang="fr-FR" sz="4800" spc="-1" strike="noStrike">
                <a:solidFill>
                  <a:srgbClr val="3333cc"/>
                </a:solidFill>
                <a:latin typeface="Comic Sans MS"/>
              </a:rPr>
              <a:t>= l’univers</a:t>
            </a:r>
            <a:r>
              <a:rPr b="0" lang="en-GB" sz="4800" spc="-1" strike="noStrike">
                <a:solidFill>
                  <a:srgbClr val="3333cc"/>
                </a:solidFill>
                <a:latin typeface="Comic Sans MS"/>
              </a:rPr>
              <a:t> / the univer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V = un </a:t>
            </a:r>
            <a:r>
              <a:rPr b="0" lang="fr-FR" sz="4800" spc="-1" strike="noStrike">
                <a:solidFill>
                  <a:srgbClr val="ff0000"/>
                </a:solidFill>
                <a:latin typeface="Comic Sans MS"/>
              </a:rPr>
              <a:t>vélo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 / a bik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cc"/>
                </a:solidFill>
                <a:latin typeface="Comic Sans MS"/>
              </a:rPr>
              <a:t>W = un wagon / a train carria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X = un xylopho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cc"/>
                </a:solidFill>
                <a:latin typeface="Comic Sans MS"/>
              </a:rPr>
              <a:t>Y = un yach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Z = un </a:t>
            </a:r>
            <a:r>
              <a:rPr b="0" lang="fr-FR" sz="4800" spc="-1" strike="noStrike">
                <a:solidFill>
                  <a:srgbClr val="ff0000"/>
                </a:solidFill>
                <a:latin typeface="Comic Sans MS"/>
              </a:rPr>
              <a:t>zèbre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 / a zebr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1371600"/>
            <a:ext cx="55022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3333cc"/>
                </a:solidFill>
                <a:latin typeface="Comic Sans MS"/>
              </a:rPr>
              <a:t>un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fr-FR" sz="4800" spc="-1" strike="noStrike">
                <a:solidFill>
                  <a:srgbClr val="cc0099"/>
                </a:solidFill>
                <a:latin typeface="Comic Sans MS"/>
              </a:rPr>
              <a:t>une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trous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3333cc"/>
                </a:solidFill>
                <a:latin typeface="Comic Sans MS"/>
              </a:rPr>
              <a:t>un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fr-FR" sz="4800" spc="-1" strike="noStrike">
                <a:solidFill>
                  <a:srgbClr val="cc0099"/>
                </a:solidFill>
                <a:latin typeface="Comic Sans MS"/>
              </a:rPr>
              <a:t>une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styl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3333cc"/>
                </a:solidFill>
                <a:latin typeface="Comic Sans MS"/>
              </a:rPr>
              <a:t>un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fr-FR" sz="4800" spc="-1" strike="noStrike">
                <a:solidFill>
                  <a:srgbClr val="cc0099"/>
                </a:solidFill>
                <a:latin typeface="Comic Sans MS"/>
              </a:rPr>
              <a:t>une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règ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3333cc"/>
                </a:solidFill>
                <a:latin typeface="Comic Sans MS"/>
              </a:rPr>
              <a:t>un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fr-FR" sz="4800" spc="-1" strike="noStrike">
                <a:solidFill>
                  <a:srgbClr val="cc0099"/>
                </a:solidFill>
                <a:latin typeface="Comic Sans MS"/>
              </a:rPr>
              <a:t>une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ball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3333cc"/>
                </a:solidFill>
                <a:latin typeface="Comic Sans MS"/>
              </a:rPr>
              <a:t>un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fr-FR" sz="4800" spc="-1" strike="noStrike">
                <a:solidFill>
                  <a:srgbClr val="cc0099"/>
                </a:solidFill>
                <a:latin typeface="Comic Sans MS"/>
              </a:rPr>
              <a:t>une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cahi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3333cc"/>
                </a:solidFill>
                <a:latin typeface="Comic Sans MS"/>
              </a:rPr>
              <a:t>un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fr-FR" sz="4800" spc="-1" strike="noStrike">
                <a:solidFill>
                  <a:srgbClr val="cc0099"/>
                </a:solidFill>
                <a:latin typeface="Comic Sans MS"/>
              </a:rPr>
              <a:t>une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liv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3333cc"/>
                </a:solidFill>
                <a:latin typeface="Comic Sans MS"/>
              </a:rPr>
              <a:t>un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fr-FR" sz="4800" spc="-1" strike="noStrike">
                <a:solidFill>
                  <a:srgbClr val="cc0099"/>
                </a:solidFill>
                <a:latin typeface="Comic Sans MS"/>
              </a:rPr>
              <a:t>une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gom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50560" y="304920"/>
            <a:ext cx="626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3333cc"/>
                </a:solidFill>
                <a:uFillTx/>
                <a:latin typeface="Comic Sans MS"/>
              </a:rPr>
              <a:t>masculin</a:t>
            </a:r>
            <a:r>
              <a:rPr b="0" lang="fr-FR" sz="4800" spc="-1" strike="noStrike" u="sng">
                <a:solidFill>
                  <a:srgbClr val="000000"/>
                </a:solidFill>
                <a:uFillTx/>
                <a:latin typeface="Comic Sans MS"/>
              </a:rPr>
              <a:t> ou </a:t>
            </a:r>
            <a:r>
              <a:rPr b="0" lang="fr-FR" sz="4800" spc="-1" strike="noStrike" u="sng">
                <a:solidFill>
                  <a:srgbClr val="cc0099"/>
                </a:solidFill>
                <a:uFillTx/>
                <a:latin typeface="Comic Sans MS"/>
              </a:rPr>
              <a:t>féminin</a:t>
            </a:r>
            <a:r>
              <a:rPr b="0" lang="fr-FR" sz="4800" spc="-1" strike="noStrike" u="sng">
                <a:solidFill>
                  <a:srgbClr val="000000"/>
                </a:solidFill>
                <a:uFillTx/>
                <a:latin typeface="Comic Sans MS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46160" y="838080"/>
            <a:ext cx="7134120" cy="5510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cc0099"/>
                </a:solidFill>
                <a:latin typeface="Comic Sans MS"/>
              </a:rPr>
              <a:t>Comment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4800" spc="-1" strike="noStrike">
                <a:solidFill>
                  <a:srgbClr val="3333cc"/>
                </a:solidFill>
                <a:latin typeface="Comic Sans MS"/>
              </a:rPr>
              <a:t>tu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4800" spc="-1" strike="noStrike">
                <a:solidFill>
                  <a:srgbClr val="008000"/>
                </a:solidFill>
                <a:latin typeface="Comic Sans MS"/>
              </a:rPr>
              <a:t>t’appelles</a:t>
            </a:r>
            <a:r>
              <a:rPr b="0" lang="fr-FR" sz="4800" spc="-1" strike="noStrike">
                <a:solidFill>
                  <a:srgbClr val="cc0099"/>
                </a:solidFill>
                <a:latin typeface="Comic Sans MS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3333cc"/>
                </a:solidFill>
                <a:latin typeface="Comic Sans MS"/>
              </a:rPr>
              <a:t>Je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4800" spc="-1" strike="noStrike">
                <a:solidFill>
                  <a:srgbClr val="008000"/>
                </a:solidFill>
                <a:latin typeface="Comic Sans MS"/>
              </a:rPr>
              <a:t>m’appelle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 …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cc0099"/>
                </a:solidFill>
                <a:latin typeface="Comic Sans MS"/>
              </a:rPr>
              <a:t>Comment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4800" spc="-1" strike="noStrike">
                <a:solidFill>
                  <a:srgbClr val="3333cc"/>
                </a:solidFill>
                <a:latin typeface="Comic Sans MS"/>
              </a:rPr>
              <a:t>ça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4800" spc="-1" strike="noStrike">
                <a:solidFill>
                  <a:srgbClr val="008000"/>
                </a:solidFill>
                <a:latin typeface="Comic Sans MS"/>
              </a:rPr>
              <a:t>s’écrit</a:t>
            </a:r>
            <a:r>
              <a:rPr b="0" lang="fr-FR" sz="4800" spc="-1" strike="noStrike">
                <a:solidFill>
                  <a:srgbClr val="cc0099"/>
                </a:solidFill>
                <a:latin typeface="Comic Sans MS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3333cc"/>
                </a:solidFill>
                <a:latin typeface="Comic Sans MS"/>
              </a:rPr>
              <a:t>……………</a:t>
            </a:r>
            <a:r>
              <a:rPr b="0" lang="fr-FR" sz="48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35040" y="1397160"/>
            <a:ext cx="7984800" cy="3571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est yourself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f you managed well write in your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jotter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 can … (what you can d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f you got it wrong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can you do to make it bet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23:10:09Z</dcterms:created>
  <dc:creator>drew</dc:creator>
  <dc:description/>
  <dc:language>en-US</dc:language>
  <cp:lastModifiedBy>caroline</cp:lastModifiedBy>
  <dcterms:modified xsi:type="dcterms:W3CDTF">2006-09-27T22:40:22Z</dcterms:modified>
  <cp:revision>19</cp:revision>
  <dc:subject/>
  <dc:title>No Slide Title</dc:title>
</cp:coreProperties>
</file>